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762-118C-4431-A37C-4EE4A06C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940-ADC5-4221-9931-DFA8A9B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0A2-2498-4577-9DA4-752FD50F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59B-03CA-42BF-81B3-3ACC3B74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D2E-EAC1-4BDD-8BED-1F583415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5BA-381E-42D8-BD2E-4510C8D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07A-FB69-4875-BDF6-01ECE321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3D4-E80C-4469-A5A0-642FB4DD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301-6E32-4EED-9F46-22D8D4E6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040-16B2-4251-B106-1C1149E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20F-DF5D-4072-A01F-4B6FA74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A55-7892-4CC8-B05C-4309643E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0DE3-9F14-4C70-A565-272971014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40400" cy="130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4320" y="15606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41911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6897960" cy="6377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609588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6095880"/>
            <a:ext cx="3812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09588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00080"/>
            <a:ext cx="7772400" cy="658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632448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6324480"/>
            <a:ext cx="1600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6324480"/>
            <a:ext cx="1523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440" y="304920"/>
            <a:ext cx="4915080" cy="976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1471680"/>
            <a:ext cx="7924680" cy="5126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5029200"/>
            <a:ext cx="1676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095880"/>
            <a:ext cx="2209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001000" cy="678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09680" y="6324480"/>
            <a:ext cx="3812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2485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6248520"/>
            <a:ext cx="6094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326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37:10Z</dcterms:created>
  <dc:creator>Graham</dc:creator>
  <dc:description/>
  <dc:language>en-US</dc:language>
  <cp:lastModifiedBy>Graham</cp:lastModifiedBy>
  <dcterms:modified xsi:type="dcterms:W3CDTF">2012-08-08T12:20:13Z</dcterms:modified>
  <cp:revision>2</cp:revision>
  <dc:subject/>
  <dc:title>Slide 1</dc:title>
</cp:coreProperties>
</file>